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CA8B-8497-41DB-9B9F-066958FC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A385-B5BF-4788-9815-687D3281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9BE8-9055-495D-B2EB-816AE223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129D-6ECA-4A88-B43D-7C9DCA69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FB7C-081B-429C-AC8A-E2ED2394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2020-8345-4D1E-9594-F5C4C360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2F70-3B3C-4DA8-8332-93A56B3A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82E2-9028-4D78-83B7-6244A1B0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4ABF-54DF-4313-9C2E-A3CDB36E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5B89-25A0-40DA-A7D0-3FCDB06B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FDCE-9179-43F4-9960-DACD7665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9498-70D0-4065-A813-0F8EB6A3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44D0-1F02-4BF2-8F2F-3B64458CAE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2" descr=""/>
          <p:cNvPicPr/>
          <p:nvPr/>
        </p:nvPicPr>
        <p:blipFill>
          <a:blip r:embed="rId1"/>
          <a:stretch/>
        </p:blipFill>
        <p:spPr>
          <a:xfrm>
            <a:off x="79200" y="1365120"/>
            <a:ext cx="899172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«Будь толерантен, а попросту – терпим!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360360"/>
            <a:ext cx="9144000" cy="64929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olerancia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(исп.) – способность признавать  отличные от своих собственных идей или мн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olerance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(фр.) – отношение, при котором допускается, что другие могут думать или действовать иначе, нежели ты с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olerance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(англ.) – готовность быть терпимым, снисходитель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Kuan rong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(кит.) -  позволять, принимать, быть по отношению к другим великодушны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asamul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(араб.) -  прощение, снисходительность, мягкость, милосердие, сострадание, благосклонность, терпение […] расположенность к друг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Толерантность, терпимость (рус.) – способность терпеть что-то или кого-т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762120"/>
            <a:ext cx="9144000" cy="588744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Буддизм: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«Человек может выразить своё отношение к родственникам и друзьям пятью способами: великодушием, учтивостью, доброжелательностью, отношением к ним, как к себе, и верностью своему слову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Конфуцианство: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«Не делай другим того, чего ты не хотел бы от других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Христианство: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«Во всём, как хотите, чтобы с вами поступали люди, так поступайте и вы с ним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Индуизм: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«Не делай другому того, от чего больно тебе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Ислам: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«Никто из вас не станет верующим, пока не полюбит своего брата, как себя самого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Джайнизм: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«В счастье и страдании, в радости и в горе мы должны относится ко всем существам, как относимся к самим себе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Иудаизм: «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Не делай ближнему своему того, от чего плохо тебе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Сикхизм: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«Как ты думаешь о себе, так думай и о других. Тогда на небе вы будете рав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Даосизм: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«считай успех  соседа своим успехом, а потерю соседа своей потерей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Зороастризм: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«только та натура хороша, которая не сделает другой того, что нехорошо для неё самой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ОЛЕРАНТН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В чужой монастырь со своим _________ не ходят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В каком _______ живёшь, такого обычая и придерживайся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Чтоб уважали тебя, научись _________ 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ОЛЕРАНТ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"/>
          <p:cNvPicPr/>
          <p:nvPr/>
        </p:nvPicPr>
        <p:blipFill>
          <a:blip r:embed="rId1"/>
          <a:stretch/>
        </p:blipFill>
        <p:spPr>
          <a:xfrm>
            <a:off x="426960" y="1584360"/>
            <a:ext cx="828360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07:42:38Z</dcterms:created>
  <dc:creator>User</dc:creator>
  <dc:description/>
  <dc:language>en-US</dc:language>
  <cp:lastModifiedBy>User</cp:lastModifiedBy>
  <dcterms:modified xsi:type="dcterms:W3CDTF">2007-11-16T11:48:15Z</dcterms:modified>
  <cp:revision>6</cp:revision>
  <dc:subject/>
  <dc:title>Толерантность</dc:title>
</cp:coreProperties>
</file>