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6AD-BB67-4DD1-B2D6-61EA695B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E28-EDEB-464B-B54B-4F9A1676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96C-42E5-4532-AAFB-6FAA8147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4C5-6E58-4E75-BFDD-36FDDB0F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2BB-C9D0-4CD2-B63F-13D7A368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C7C-E2DB-42FB-8EDC-193A6959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D9D-AC96-4CC6-A667-37802E04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70C-9E60-4B29-A67E-301FCD30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178-54FD-4DE4-92EC-3ADF9D34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ED7-64B9-46D6-93B1-D3ED5CFA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0AD-FD20-4C60-B2EA-FFF8039C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728-3201-4BA3-9FFE-57EECAA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BE89-B483-4B74-804A-982714F94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ичины и предпосылки создания Древнерусского государст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осударство – это политическая организация, осуществляющая внутреннюю и внешнюю политик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тчина – наследственное земельное влад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нязья и бояре – феодальная аристократия; вотчинн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ерды – крестьяне свободные и лично зависимы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лопы – зависимые люди, на положении раб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стема управл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еликий княз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ружи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нязья племенных союз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руж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рговый путь «из варяг в гре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сканирование0001.jpg"/>
          <p:cNvPicPr/>
          <p:nvPr/>
        </p:nvPicPr>
        <p:blipFill>
          <a:blip r:embed="rId1"/>
          <a:stretch/>
        </p:blipFill>
        <p:spPr>
          <a:xfrm>
            <a:off x="1262160" y="1262160"/>
            <a:ext cx="6406920" cy="5692680"/>
          </a:xfrm>
          <a:prstGeom prst="rect">
            <a:avLst/>
          </a:prstGeom>
          <a:ln w="0">
            <a:noFill/>
          </a:ln>
        </p:spPr>
      </p:pic>
      <p:sp>
        <p:nvSpPr>
          <p:cNvPr id="49" name="Улыбающееся лицо 5"/>
          <p:cNvSpPr/>
          <p:nvPr/>
        </p:nvSpPr>
        <p:spPr>
          <a:xfrm>
            <a:off x="1571760" y="2714760"/>
            <a:ext cx="500040" cy="5000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68 -0.01388 C 0.05434 -0.01642 0.05851 -0.01619 0.07344 -0.02128 C 0.08681 -0.03423 0.10122 -0.03747 0.11736 -0.03955 C 0.13525 -0.04672 0.16406 -0.03978 0.18438 -0.04117 C 0.19097 -0.04556 0.19757 -0.05042 0.20365 -0.05597 C 0.20643 -0.05528 0.20938 -0.05597 0.21181 -0.05412 C 0.21302 -0.0532 0.2132 -0.05042 0.2132 -0.04857 C 0.2132 -0.01851 0.21146 -0.02706 0.20365 -0.00671 C 0.20261 0.00948 0.20295 0.01364 0.19809 0.02613 C 0.19688 0.03469 0.19757 0.03977 0.19132 0.04278 C 0.19045 0.04463 0.18976 0.04648 0.18854 0.0481 C 0.18733 0.04972 0.18455 0.04949 0.18438 0.0518 C 0.18247 0.07215 0.1849 0.08903 0.19948 0.09551 C 0.2 0.09805 0.20174 0.1006 0.20087 0.10291 C 0.19879 0.10846 0.18125 0.108 0.17761 0.10846 C 0.17674 0.11031 0.17604 0.11239 0.17483 0.11378 C 0.17361 0.11494 0.17153 0.11401 0.17066 0.11563 C 0.16945 0.11771 0.17014 0.12072 0.16945 0.12303 C 0.16875 0.12557 0.16754 0.12789 0.16667 0.1302 C 0.1684 0.13945 0.16875 0.1487 0.17066 0.15772 C 0.16806 0.19334 0.17031 0.18455 0.1625 0.20513 C 0.16459 0.2352 0.16406 0.22641 0.18854 0.22872 C 0.19809 0.23196 0.19983 0.23566 0.20764 0.24329 C 0.2099 0.24768 0.21927 0.26156 0.22275 0.26341 C 0.2257 0.26503 0.22917 0.26457 0.23229 0.26526 C 0.24028 0.26873 0.24254 0.26387 0.24462 0.27613 C 0.24271 0.28492 0.23854 0.28515 0.23229 0.28723 C 0.22361 0.29532 0.21459 0.29324 0.20365 0.2944 C 0.19479 0.29648 0.18733 0.29902 0.179 0.30365 C 0.16945 0.31614 0.17275 0.31013 0.16806 0.32007 C 0.16615 0.33533 0.1665 0.35037 0.16945 0.36563 C 0.1684 0.37835 0.17014 0.38552 0.16111 0.38945 C 0.15573 0.39662 0.1507 0.40148 0.1434 0.40402 C 0.1375 0.40934 0.13056 0.41073 0.12413 0.41489 C 0.12136 0.42021 0.10434 0.43894 0.11875 0.42946 C 0.12118 0.41859 0.11997 0.4216 0.13108 0.40934 C 0.13212 0.40818 0.13403 0.40911 0.13507 0.40772 C 0.13559 0.40703 0.1342 0.40656 0.13368 0.40587 E">
                                      <p:cBhvr>
                                        <p:cTn id="68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сканирование0001.jpg"/>
          <p:cNvPicPr/>
          <p:nvPr/>
        </p:nvPicPr>
        <p:blipFill>
          <a:blip r:embed="rId1"/>
          <a:stretch/>
        </p:blipFill>
        <p:spPr>
          <a:xfrm>
            <a:off x="3846600" y="1560600"/>
            <a:ext cx="4730760" cy="4962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з. Иль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. Куб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з. Ладож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.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. Вол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. Волх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ёрное мо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рь себя!!!(Что лишнее в ряду?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.05232 E">
                                      <p:cBhvr>
                                        <p:cTn id="86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0.14699 E">
                                      <p:cBhvr>
                                        <p:cTn id="90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7257 0.14699 E">
                                      <p:cBhvr>
                                        <p:cTn id="9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0.00092 0.00573 0.00162 0.00833 0.003 C 0.00972 0.0037 0.01059 0.00555 0.01198 0.00625 C 0.01684 0.00879 0.03385 0.00949 0.03455 0.00949 C 0.075 0.03171 0.12309 0.02199 0.16666 0.02384 C 0.17569 0.02939 0.1868 0.02962 0.19653 0.03171 C 0.20781 0.02662 0.2191 0.03194 0.2309 0.03333 C 0.24618 0.04004 0.26267 0.0412 0.27864 0.04282 C 0.2868 0.0456 0.29288 0.04768 0.30121 0.04907 C 0.3158 0.05555 0.32326 0.053 0.34288 0.05393 C 0.36597 0.06296 0.39219 0.0618 0.41545 0.06342 C 0.48125 0.06087 0.54531 0.04259 0.61076 0.03495 C 0.61736 0.03263 0.62326 0.0287 0.62986 0.02685 C 0.64132 0.02361 0.65295 0.02291 0.66423 0.01898 C 0.67101 0.01157 0.67222 0.01041 0.67986 0.00787 C 0.69791 -0.00417 0.6901 -0.000699999999999999 0.70364 -0.01274 C 0.70503 -0.01413 0.70694 -0.01459 0.70833 -0.01598 C 0.72309 -0.03218 0.71076 -0.02315 0.72153 -0.03033 C 0.72535 -0.0382 0.72916 -0.04399 0.73455 -0.05093 C 0.72916 -0.06088 0.73455 -0.06366 0.74045 -0.06991 C 0.74253 -0.07524 0.74444 -0.08056 0.74653 -0.08588 C 0.74774 -0.08889 0.75069 -0.08982 0.75243 -0.09213 C 0.75486 -0.09538 0.75538 -0.09954 0.75712 -0.10325 C 0.75798 -0.10533 0.76371 -0.11621 0.76545 -0.11922 C 0.76649 -0.1213 0.7691 -0.12547 0.7691 -0.12547 C 0.77135 -0.13473 0.77535 -0.14237 0.77864 -0.15093 C 0.77899 -0.15348 0.77916 -0.15625 0.77986 -0.1588 C 0.78038 -0.16065 0.78212 -0.16181 0.78212 -0.16366 C 0.78264 -0.18334 0.78073 -0.20278 0.77257 -0.21922 C 0.77101 -0.22825 0.7691 -0.22639 0.76545 -0.23334 C 0.76389 -0.23982 0.76076 -0.24144 0.75712 -0.24607 C 0.75486 -0.25533 0.74514 -0.26389 0.73906 -0.26991 C 0.73489 -0.27917 0.73958 -0.27153 0.73333 -0.27616 C 0.73073 -0.27801 0.72621 -0.28264 0.72621 -0.28264 C 0.72014 -0.29815 0.71059 -0.2919 0.7 -0.28727 C 0.6941 -0.28797 0.6875 -0.28681 0.68212 -0.29051 C 0.67916 -0.2926 0.67639 -0.297 0.67378 -0.3 C 0.66545 -0.3095 0.65851 -0.31922 0.64757 -0.32223 C 0.63264 -0.33612 0.60069 -0.33311 0.58333 -0.33496 C 0.56892 -0.3338 0.55694 -0.3338 0.54288 -0.33658 C 0.53628 -0.33959 0.52951 -0.34028 0.52257 -0.34144 C 0.52031 -0.34538 0.51753 -0.34862 0.51545 -0.35255 C 0.51059 -0.36181 0.51927 -0.35232 0.51076 -0.36204 C 0.50833 -0.36482 0.50243 -0.36806 0.50243 -0.37315 E">
                                      <p:cBhvr>
                                        <p:cTn id="98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816 0.01897 L 0.59913 -0.21184 E">
                                      <p:cBhvr>
                                        <p:cTn id="102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0:24:04Z</dcterms:created>
  <dc:creator>User</dc:creator>
  <dc:description/>
  <dc:language>en-US</dc:language>
  <cp:lastModifiedBy>User</cp:lastModifiedBy>
  <dcterms:modified xsi:type="dcterms:W3CDTF">2008-03-20T08:05:27Z</dcterms:modified>
  <cp:revision>18</cp:revision>
  <dc:subject/>
  <dc:title>Торговый путь «из варяг в греки»</dc:title>
</cp:coreProperties>
</file>